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0FF-0C5A-4D10-8CCE-43FAB3A7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F967-A7EC-40CD-B027-C8795F03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0E77-0A8A-4E36-A656-31E3CE57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6BB-5105-4F84-B1EA-B9D93E12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F9C8-9EBC-4FF0-AD95-BD31B10F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B68A-71E4-4D49-8D10-2E5D4083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90DC-45F1-4F1A-A92E-C752D93F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16EE-81AF-4501-BC5C-79B05D02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3AF6-2FDC-4BBE-9B73-69210743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18CE-E622-4579-9ABF-4E6C8624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33D1-D622-4350-9BD9-AA3B3F96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F66-0C64-4F75-AB14-2A1B8446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8F27-D29B-4B95-800E-D4F87373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03B0-881C-4A30-83A4-D9404414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B27E-AFFD-474B-9ED2-5A7C27BD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8404-EDF5-4005-A6CB-CB2F6688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7617-5C65-4907-AFD4-DE24B4DF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29C19-B1CD-4890-937E-4B0ABB0A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AE2AE-1E99-46B8-BA1F-67E4BE96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4E9B14-D649-4376-9771-FB0ACB76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5045D-A2F9-4025-BDB1-783D8552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3221B-08BD-4FB9-86DB-2B553EC4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EB0-715D-4838-99E6-BC97CB2B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4265A-5DFF-4FD9-B870-71B90D2D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AD65A-6334-4A0C-8D00-5A161AB3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E2E1E-3F55-4FBA-830D-178F3963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8EFE9-02D1-4A0F-A930-B09886FD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48247-18C0-4D96-80BF-F8CAB6A4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ABFA5-BE71-487B-A0E8-79189461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96181-8AE9-4F4E-A638-21ECDEE2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DCB115-BF16-489B-8681-80528B2C1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2E39F7-D199-412F-924D-D3DE8671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76706F-58F8-4BEB-A10B-10E1F166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6D6-14BE-4393-AF89-D306FA6D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0D968-BE4D-4150-BA53-69A29AE9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863C39-D222-4A6D-8D79-0E286A28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3C87E4-4068-4DFE-9403-E8ACA193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082D26-04D7-4076-9693-5CF86A1B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F60019-EB4A-416C-BCA8-388E685F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B05D99-AC56-47A9-9672-EDC45CDE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6CF20A-F663-4C9C-B113-F465F2AD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8D895F-8F1F-4BA9-BEEC-AB1CD845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12BCEE-9145-47FF-B6A7-CB2780AF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93354-094E-47BC-8F62-46D0D4C7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2A8-09E1-40C7-A060-6186A274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33719-A1E6-4711-B826-23318052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EAB33-3869-4A00-B3A3-09D3CBDA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CA554B-29C6-4CEF-A617-032E52CC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0692C1-47AC-441C-8315-84FCC669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4F0260-24E2-45DE-9478-887D2E48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43A1E-CB9E-4A07-8D40-E468068B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264934-982D-47E5-BF18-592076B0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A0863B-FAC2-4AFD-86A3-53A6F47C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74F8B1-5CE2-495E-AAD4-2A73F790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30A90-AFD0-46E8-8538-4663E24A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058-AA07-415A-81D0-7F933A89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20CD6E-D989-4446-B8BF-0ECA0CC0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120CC-7750-4257-B6E2-BAFBF51C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2A7B0-8C98-4215-BB6B-C6FE8207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6C99D-66C1-4379-A9E2-52D47338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FDF71-58BC-4D89-AFD7-9922B6DC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B5785-7BB9-4F8D-9C26-EB907B57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F186D-C047-433F-ADA0-6C5E4167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0315E-20DD-44A1-9F43-989F7D68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5994C-AE1C-4B3C-AAF3-AE83896E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16FC7-644A-4F62-97A4-D9105717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E52-325F-4AC5-A8EF-94C5C616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DE15B-C182-48A3-BB4E-7C3F5FAF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B4E89-B1B3-448F-81B2-F5F9D781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5622C-5B6E-4087-8789-E60F5F10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36F61D-8494-43AD-8A86-C8318A36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976DA3-8595-4DC3-8A9F-85420710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3A3875-2B69-4ECA-AC1E-870278B7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CFBDFD-C451-4519-9E76-47CA2EE8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917208-3841-48B3-B84E-0B2BB76B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3937D7-5B67-42C0-8069-2A452839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671F2E-68EE-4064-A8B5-47F69BDF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0FD-546A-4726-ADBA-92B063D0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83463C-2E93-4419-84CE-F5BB0F8C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28B22B-F51B-4F3F-9BC7-50FEB272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0DA7D3-0E86-43E3-869E-50EBEF95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826531-E494-4F21-91D6-219ACF84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5037FE-238B-41EF-8A0A-6495C3A1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7FAA4-2DBE-4B2A-816F-39FE9528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819C0-FA86-4482-9BB1-42B54897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048AF-E5CB-4D19-9B7C-6782CD81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5D302-C1DB-49B7-BF2F-FC592865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516EB-B064-413A-8742-0573DC53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34F9-B9F7-43A5-BCFF-6E610D15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05AB9-06DC-499D-B28A-8B21473D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71200-4DB6-4F93-92CA-DEEFCF8E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99E8B-16BA-4A3A-A096-DBB8F467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3C17E-19F2-4333-BC44-640165E9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AF011-8935-4DC1-B56A-AA8D0F45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C5F8A-8940-4D3E-899D-AAFC667F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69306-169F-4DE3-B61C-3DE15889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0E09-4922-46E9-940E-FE5D69FD1005}" type="slidenum">
              <a:rPr b="1" lang="sr-C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C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31BE-5194-43C6-8DCF-CCD7C1356B74}" type="slidenum">
              <a:rPr b="1" lang="sr-C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C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235A-D2D7-4F9C-99FE-CCAC127C0C91}" type="slidenum"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ABBE-5F9E-455B-8772-EE15A8574F4A}" type="slidenum">
              <a:rPr b="1" lang="sr-C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0EED-2965-434D-8696-01137D11FC51}" type="slidenum">
              <a:rPr b="1" lang="sr-C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C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3FB4-3132-4922-BDBD-D04D8A99A32B}" type="slidenum">
              <a:rPr b="1" lang="sr-C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C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912F-6C03-402A-950F-255E0F977EF5}" type="slidenum"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CA33-1E67-4C12-88C6-87510E583833}" type="slidenum">
              <a:rPr b="1" lang="sr-C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sr-RS" sz="3600" spc="-1" strike="noStrike">
                <a:solidFill>
                  <a:srgbClr val="ebddc3"/>
                </a:solidFill>
                <a:latin typeface="Calibri"/>
              </a:rPr>
              <a:t>АКУТНА ПСИХОЗА АЛКОХОЛИЧАРА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проф. др Милица Боровчанин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2" name="Picture 5" descr="Резултат слика за alcohol"/>
          <p:cNvPicPr/>
          <p:nvPr/>
        </p:nvPicPr>
        <p:blipFill>
          <a:blip r:embed="rId1"/>
          <a:stretch/>
        </p:blipFill>
        <p:spPr>
          <a:xfrm>
            <a:off x="6248520" y="48006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775f55"/>
                </a:solidFill>
                <a:latin typeface="Calibri"/>
              </a:rPr>
              <a:t>Класификација алкохолизма</a:t>
            </a:r>
            <a:br>
              <a:rPr sz="4000"/>
            </a:br>
            <a:r>
              <a:rPr b="0" lang="sr-RS" sz="3400" spc="-1" strike="noStrike">
                <a:solidFill>
                  <a:srgbClr val="775f55"/>
                </a:solidFill>
                <a:latin typeface="Calibri"/>
              </a:rPr>
              <a:t>- Лешова типологија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Тип 1: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Ефекти алкохола на симптоме </a:t>
            </a:r>
            <a:r>
              <a:rPr b="0" lang="sr-RS" sz="2700" spc="-1" strike="noStrike">
                <a:solidFill>
                  <a:srgbClr val="dd8047"/>
                </a:solidFill>
                <a:latin typeface="Calibri"/>
              </a:rPr>
              <a:t>апстиненцијалне кризе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(неуроадаптација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Тип 2: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Алкохол као </a:t>
            </a:r>
            <a:r>
              <a:rPr b="0" lang="sr-RS" sz="2700" spc="-1" strike="noStrike">
                <a:solidFill>
                  <a:srgbClr val="dd8047"/>
                </a:solidFill>
                <a:latin typeface="Calibri"/>
              </a:rPr>
              <a:t>анксиолитик</a:t>
            </a:r>
            <a:r>
              <a:rPr b="0" lang="sr-RS" sz="27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(социјално учење и когнитивни модели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Тип 3: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Алкохол као </a:t>
            </a:r>
            <a:r>
              <a:rPr b="0" lang="sr-RS" sz="2700" spc="-1" strike="noStrike">
                <a:solidFill>
                  <a:srgbClr val="dd8047"/>
                </a:solidFill>
                <a:latin typeface="Calibri"/>
              </a:rPr>
              <a:t>антидепреси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Тип 4: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Алкохол код </a:t>
            </a:r>
            <a:r>
              <a:rPr b="0" lang="sr-RS" sz="2700" spc="-1" strike="noStrike">
                <a:solidFill>
                  <a:srgbClr val="dd8047"/>
                </a:solidFill>
                <a:latin typeface="Calibri"/>
              </a:rPr>
              <a:t>поремећаја контроле импулса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и/или компулзија са претходним оштећењем мозга, који покушавају да се адаптирају са социјалном ситуацијом (социо- културолошко- органски модел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Дијагноза алкохолизм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авремени дијагностички системи (</a:t>
            </a:r>
            <a:r>
              <a:rPr b="1" lang="sr-RS" sz="2200" spc="-1" strike="noStrike">
                <a:solidFill>
                  <a:srgbClr val="dd8047"/>
                </a:solidFill>
                <a:latin typeface="Calibri"/>
              </a:rPr>
              <a:t>МКБ-10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GB" sz="2200" spc="-1" strike="noStrike">
                <a:solidFill>
                  <a:srgbClr val="dd8047"/>
                </a:solidFill>
                <a:latin typeface="Calibri"/>
              </a:rPr>
              <a:t>DSM-IV</a:t>
            </a:r>
            <a:r>
              <a:rPr b="1" lang="sr-RS" sz="2200" spc="-1" strike="noStrike">
                <a:solidFill>
                  <a:srgbClr val="dd8047"/>
                </a:solidFill>
                <a:latin typeface="Calibri"/>
              </a:rPr>
              <a:t>/</a:t>
            </a:r>
            <a:r>
              <a:rPr b="1" lang="sr-Latn-RS" sz="2200" spc="-1" strike="noStrike">
                <a:solidFill>
                  <a:srgbClr val="dd8047"/>
                </a:solidFill>
                <a:latin typeface="Calibri"/>
              </a:rPr>
              <a:t>V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авља се скуп препознатљивих симптом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губитак контрол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могућност апстиненциј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ад толеранциј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алимпцест амнезије (“печатасте” амнезије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ијење упркос проблем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ијагноза алкохолизма поставља се на темељу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намнестичких података симптома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екарског прегледа (соматског и психичког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етероанамнестичких података, које најчешће дају чланови породиц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абораторијских претрага (хематолошких и биохемијски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57200" y="533520"/>
          <a:ext cx="8229600" cy="5851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финисани обрасци пијења алкохолнох пић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8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скоризично (“одговорно”) пије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Друштвено прихватљив стил пијења са дефинисаном количином до 2 стандардна пића (СП) у једној ситуацији за мушкарце и до 1СП за же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Минимално 2 дана у недељи апстинен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706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зично (прекомерно) пије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ил пијења који носи ризик по здрављ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мушкарце- више од 14 СП недељно (више од 7 СП за жене) или 3 и више СП током једне одређене ситуације (2 и више СП за жене)</a:t>
                      </a:r>
                      <a:br>
                        <a:rPr sz="1600"/>
                      </a:b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Учестале интоксикације (оба пол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етно пијењ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ил пијења који доводи до здравствених проблема (телесних или психичких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а није зависна од алкохо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838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лоупотреба алкох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рисуство проблема у породици, на послу, проблеми са законом или у друштвеном окружењу због пијења алкох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79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кохолиз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исност од алкох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пходна стручна помо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383" name="TextBox 4"/>
          <p:cNvSpPr/>
          <p:nvPr/>
        </p:nvSpPr>
        <p:spPr>
          <a:xfrm>
            <a:off x="2209680" y="6477120"/>
            <a:ext cx="647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стандардно пиће (СП) - флаша пива, чаша вина или чашица жестоког пић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Акуто напито стање </a:t>
            </a:r>
            <a:r>
              <a:rPr b="0" lang="en-US" sz="4400" spc="-1" strike="noStrike">
                <a:solidFill>
                  <a:srgbClr val="dd8047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dd8047"/>
                </a:solidFill>
                <a:latin typeface="Tw Cen MT"/>
              </a:rPr>
              <a:t>F10.0)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Краткотрајни душевни поремећај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Акутно интоксицирана особа пролази кроз четири фазе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фаза ексцитације (психомоторна, мускуломоторна и вазомоторна надраженос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фаза правог пијанств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фаза наркотичног дејства алкохола или депресије (мускуломоторна, психомоторна и вазомоторна инхибиција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фаза ком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Алкохолна зависност </a:t>
            </a:r>
            <a:r>
              <a:rPr b="0" lang="en-US" sz="4400" spc="-1" strike="noStrike">
                <a:solidFill>
                  <a:srgbClr val="dd8047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dd8047"/>
                </a:solidFill>
                <a:latin typeface="Tw Cen MT"/>
              </a:rPr>
              <a:t>F10.2</a:t>
            </a:r>
            <a:r>
              <a:rPr b="0" lang="en-US" sz="4400" spc="-1" strike="noStrike">
                <a:solidFill>
                  <a:srgbClr val="dd8047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8288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линичка слика алкохолне зависности је кластер психолошких, бихејвиоралних и когнитивних синдрома насталих због унутрашњег порива особе за поновљеним узимањем алкохол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звија се током више месеци и година и ако се не лечи има хроничан и прогресиван то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Неуробилогија алкохолне зависности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1676160"/>
            <a:ext cx="4648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Адаптивне неурохемијске и физиолошке промене- неуроадапта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Смањење броја рецептора </a:t>
            </a:r>
            <a:r>
              <a:rPr b="0" lang="el-GR" sz="22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аминобутерне киселине </a:t>
            </a:r>
            <a:r>
              <a:rPr b="0" lang="en-US" sz="2200" spc="-1" strike="noStrike">
                <a:solidFill>
                  <a:srgbClr val="dd8047"/>
                </a:solidFill>
                <a:latin typeface="Calibri"/>
              </a:rPr>
              <a:t>(</a:t>
            </a:r>
            <a:r>
              <a:rPr b="0" lang="en-GB" sz="2200" spc="-1" strike="noStrike">
                <a:solidFill>
                  <a:srgbClr val="dd8047"/>
                </a:solidFill>
                <a:latin typeface="Calibri"/>
              </a:rPr>
              <a:t>GABA</a:t>
            </a:r>
            <a:r>
              <a:rPr b="0" lang="en-US" sz="2200" spc="-1" strike="noStrike">
                <a:solidFill>
                  <a:srgbClr val="dd8047"/>
                </a:solidFill>
                <a:latin typeface="Calibri"/>
              </a:rPr>
              <a:t>)</a:t>
            </a:r>
            <a:r>
              <a:rPr b="0" lang="en-GB" sz="2200" spc="-1" strike="noStrike">
                <a:solidFill>
                  <a:srgbClr val="dd8047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 повећање број рецептора глутаматергич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г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N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метил-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D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аспартата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200" spc="-1" strike="noStrike">
                <a:solidFill>
                  <a:srgbClr val="dd8047"/>
                </a:solidFill>
                <a:latin typeface="Calibri"/>
              </a:rPr>
              <a:t>(NMDA)</a:t>
            </a:r>
            <a:r>
              <a:rPr b="0" lang="ru-RU" sz="2200" spc="-1" strike="noStrike">
                <a:solidFill>
                  <a:srgbClr val="dd8047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ди до толеран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да престане уношење алкохола, релативни дефицит GABA и пораст функције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NMDA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објашњава хиперексцитабилност и појаву апстиненцијалне криз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4687920" y="2438280"/>
            <a:ext cx="44560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775f55"/>
                </a:solidFill>
                <a:latin typeface="Calibri"/>
              </a:rPr>
              <a:t>Синдром након престанка узимања алкохола </a:t>
            </a:r>
            <a:r>
              <a:rPr b="0" lang="sr-RS" sz="4000" spc="-1" strike="noStrike">
                <a:solidFill>
                  <a:srgbClr val="dd8047"/>
                </a:solidFill>
                <a:latin typeface="Calibri"/>
              </a:rPr>
              <a:t>(</a:t>
            </a:r>
            <a:r>
              <a:rPr b="0" lang="sr-Latn-RS" sz="4000" spc="-1" strike="noStrike">
                <a:solidFill>
                  <a:srgbClr val="dd8047"/>
                </a:solidFill>
                <a:latin typeface="Tw Cen MT"/>
              </a:rPr>
              <a:t>F10.3)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8288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Једноставна апстиненцијална криза: несаница, јутарња раздражљивост која траје до првог пијења алкохо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 тежим случајевима, симптоми се појачавају током 48-72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 укључују анксиозност, тремор, презнојавање, тахикардију, повишену температуру и пул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 најтежим случајевима, апстиненцијални симптоми прогредирају до делири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м тременса, по живот опасног обољења, уколико се не дијагностикује и не лечи на вре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775f55"/>
                </a:solidFill>
                <a:latin typeface="Calibri"/>
              </a:rPr>
              <a:t>Delirium tremens alcoholicum </a:t>
            </a:r>
            <a:r>
              <a:rPr b="0" lang="sr-Latn-RS" sz="4000" spc="-1" strike="noStrike">
                <a:solidFill>
                  <a:srgbClr val="dd8047"/>
                </a:solidFill>
                <a:latin typeface="Calibri"/>
              </a:rPr>
              <a:t>(F10.4)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228240" y="15998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зрок је дуготрајна алкохолна интоксикација, али и допунске ноксе (телесне трауме, хируршки захвати, инфекције, психичке траум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ајчешће је последица апстинен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вантитативни поремећај свести са конфузним стањем уз поремећаје оријентације у времену и просто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Халуцинације, чешће визуелне него слушне, праћене су страхом, углавном халуцинације малих животиња или инсеката, који гамижу по кожи или је пацијент њима окруже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пшта слабост, тремор, обилно знојење, доводе до дехидратације и поремећаја електролитне равнотеже- хипокалијемија може водити ка застоју срца, због чега је неопходна терапија калијумо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Говор је инкохерентан, неправил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а период делиријума пацијент има период делимичног несећањ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оже бити компликован епилептичним напад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775f55"/>
                </a:solidFill>
                <a:latin typeface="Calibri"/>
              </a:rPr>
              <a:t>Алкохолне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sr-CS" sz="4400" spc="-1" strike="noStrike">
                <a:solidFill>
                  <a:srgbClr val="775f55"/>
                </a:solidFill>
                <a:latin typeface="Calibri"/>
              </a:rPr>
              <a:t>психозе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US" sz="4400" spc="-1" strike="noStrike">
                <a:solidFill>
                  <a:srgbClr val="dd8047"/>
                </a:solidFill>
                <a:latin typeface="Tw Cen MT"/>
              </a:rPr>
              <a:t>(</a:t>
            </a:r>
            <a:r>
              <a:rPr b="0" lang="sr-Latn-CS" sz="4400" spc="-1" strike="noStrike">
                <a:solidFill>
                  <a:srgbClr val="dd8047"/>
                </a:solidFill>
                <a:latin typeface="Tw Cen MT"/>
              </a:rPr>
              <a:t>F</a:t>
            </a:r>
            <a:r>
              <a:rPr b="0" lang="en-US" sz="4400" spc="-1" strike="noStrike">
                <a:solidFill>
                  <a:srgbClr val="dd8047"/>
                </a:solidFill>
                <a:latin typeface="Tw Cen MT"/>
              </a:rPr>
              <a:t>10.5)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лкохолним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сихозама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дразумевају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тешки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ментални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ремећаји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зазвани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потребом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лкохол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15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Делиријум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тременс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Tw Cen MT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10.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15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Корсаковљева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алкохолна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психоза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Tw Cen MT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10.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15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Друге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алкохолне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деменције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Tw Cen MT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10.7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15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Алкохолна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халуциноза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Tw Cen MT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10.5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15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Патолошко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пијанство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Tw Cen MT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10.0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15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Алкохолна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љубомора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0" lang="sr-CS" sz="2100" spc="-1" strike="noStrike">
                <a:solidFill>
                  <a:srgbClr val="000000"/>
                </a:solidFill>
                <a:latin typeface="Calibri"/>
              </a:rPr>
              <a:t>параноја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) </a:t>
            </a:r>
            <a:r>
              <a:rPr b="0" lang="sr-Latn-CS" sz="2100" spc="-1" strike="noStrike">
                <a:solidFill>
                  <a:srgbClr val="000000"/>
                </a:solidFill>
                <a:latin typeface="Tw Cen MT"/>
              </a:rPr>
              <a:t>F</a:t>
            </a: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10.5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775f55"/>
                </a:solidFill>
                <a:latin typeface="Calibri"/>
              </a:rPr>
              <a:t>Корсаковљева алкохолна психоза </a:t>
            </a:r>
            <a:r>
              <a:rPr b="0" lang="en-US" sz="3400" spc="-1" strike="noStrike">
                <a:solidFill>
                  <a:srgbClr val="dd8047"/>
                </a:solidFill>
                <a:latin typeface="Calibri"/>
              </a:rPr>
              <a:t>(</a:t>
            </a:r>
            <a:r>
              <a:rPr b="0" lang="en-GB" sz="3400" spc="-1" strike="noStrike">
                <a:solidFill>
                  <a:srgbClr val="dd8047"/>
                </a:solidFill>
                <a:latin typeface="Calibri"/>
              </a:rPr>
              <a:t>F10.6)</a:t>
            </a:r>
            <a:br>
              <a:rPr sz="3400"/>
            </a:b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авља се код дугогодишње алкохолне завис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јачана раздражљивост, агитација, лак немир и апат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рактеристична је груба временска и просторна дезоријентација, неспособност упамћивања (амнезија фиксације) и испади у памћењу компензовани конфабулациј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нифестан је поремећај пажње у смислу немогућности концентрације и запаж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елесни симптоми: бледило, подбулост, полинеуритичне појав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ренција витамина Б1 и Б12 као основа за терап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Историјат употребе алкохол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523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Докази о прављењу вина из </a:t>
            </a:r>
            <a:r>
              <a:rPr b="1" lang="en-US" sz="2000" spc="-1" strike="noStrike">
                <a:solidFill>
                  <a:srgbClr val="dd8047"/>
                </a:solidFill>
                <a:latin typeface="Calibri"/>
              </a:rPr>
              <a:t>3. миленијума пре нове е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 време </a:t>
            </a:r>
            <a:r>
              <a:rPr b="1" lang="en-US" sz="2000" spc="-1" strike="noStrike">
                <a:solidFill>
                  <a:srgbClr val="dd8047"/>
                </a:solidFill>
                <a:latin typeface="Calibri"/>
              </a:rPr>
              <a:t>старих Грка и Римљан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лоупотреба алкохола је сматрана друштвеним проблем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8047"/>
                </a:solidFill>
                <a:latin typeface="Calibri"/>
              </a:rPr>
              <a:t>1250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су Европљани развили процес дестилације- направљена рак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8047"/>
                </a:solidFill>
                <a:latin typeface="Calibri"/>
              </a:rPr>
              <a:t>У XVII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еку употреба проширена на </a:t>
            </a:r>
            <a:r>
              <a:rPr b="1" lang="en-US" sz="2000" spc="-1" strike="noStrike">
                <a:solidFill>
                  <a:srgbClr val="dd8047"/>
                </a:solidFill>
                <a:latin typeface="Calibri"/>
              </a:rPr>
              <a:t>Америк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у XIX веку на снази прохиби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d8047"/>
                </a:solidFill>
                <a:latin typeface="Calibri"/>
              </a:rPr>
              <a:t>У XIX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еку је </a:t>
            </a:r>
            <a:r>
              <a:rPr b="1" lang="en-US" sz="2000" spc="-1" strike="noStrike">
                <a:solidFill>
                  <a:srgbClr val="dd8047"/>
                </a:solidFill>
                <a:latin typeface="Calibri"/>
              </a:rPr>
              <a:t>Магнус Хус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ви пут болесно стање назвао алкохолизм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лкохол је нераскидиви део традиције и културе грађана Срб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480" indent="-312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sr-CS" sz="3800" spc="-1" strike="noStrike">
                <a:solidFill>
                  <a:srgbClr val="775f55"/>
                </a:solidFill>
                <a:latin typeface="Calibri"/>
              </a:rPr>
              <a:t>Алкохолна</a:t>
            </a:r>
            <a:r>
              <a:rPr b="0" lang="en-US" sz="3800" spc="-1" strike="noStrike">
                <a:solidFill>
                  <a:srgbClr val="775f55"/>
                </a:solidFill>
                <a:latin typeface="Calibri"/>
              </a:rPr>
              <a:t> </a:t>
            </a:r>
            <a:r>
              <a:rPr b="0" lang="sr-CS" sz="3800" spc="-1" strike="noStrike">
                <a:solidFill>
                  <a:srgbClr val="775f55"/>
                </a:solidFill>
                <a:latin typeface="Calibri"/>
              </a:rPr>
              <a:t>халуциноза</a:t>
            </a:r>
            <a:r>
              <a:rPr b="0" lang="en-US" sz="3800" spc="-1" strike="noStrike">
                <a:solidFill>
                  <a:srgbClr val="775f55"/>
                </a:solidFill>
                <a:latin typeface="Calibri"/>
              </a:rPr>
              <a:t> </a:t>
            </a:r>
            <a:r>
              <a:rPr b="0" lang="sr-RS" sz="3800" spc="-1" strike="noStrike">
                <a:solidFill>
                  <a:srgbClr val="dd8047"/>
                </a:solidFill>
                <a:latin typeface="Calibri"/>
              </a:rPr>
              <a:t>(</a:t>
            </a:r>
            <a:r>
              <a:rPr b="0" lang="sr-Latn-CS" sz="3800" spc="-1" strike="noStrike">
                <a:solidFill>
                  <a:srgbClr val="dd8047"/>
                </a:solidFill>
                <a:latin typeface="Calibri"/>
              </a:rPr>
              <a:t>F</a:t>
            </a:r>
            <a:r>
              <a:rPr b="0" lang="en-US" sz="3800" spc="-1" strike="noStrike">
                <a:solidFill>
                  <a:srgbClr val="dd8047"/>
                </a:solidFill>
                <a:latin typeface="Calibri"/>
              </a:rPr>
              <a:t>10.52</a:t>
            </a:r>
            <a:r>
              <a:rPr b="0" lang="sr-RS" sz="3800" spc="-1" strike="noStrike">
                <a:solidFill>
                  <a:srgbClr val="dd8047"/>
                </a:solidFill>
                <a:latin typeface="Calibri"/>
              </a:rPr>
              <a:t>)</a:t>
            </a:r>
            <a:br>
              <a:rPr sz="3800"/>
            </a:br>
            <a:endParaRPr b="0" lang="en-US" sz="3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Јавља се код млађих људи чији алкохолни стаж не мора да буде тако ду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Значајна је преморбидна структура личности у смислу схизоидног поремећаја лич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имптоми обично почињу у сумрак, а касније дању и ноћ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82120" indent="-2480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кустичне халуцинације (јасне, транзиторне или хроничне, у трећем лицу, хомосексуалне обојености, понекад у виду наређења.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2120" indent="-2480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шумови, куцкање, звоњењ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82120" indent="-2480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умануте идеје прогањањ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остоји суд критичности (позитиван суд реалности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582120" indent="-2480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sr-CS" sz="3800" spc="-1" strike="noStrike">
                <a:solidFill>
                  <a:srgbClr val="775f55"/>
                </a:solidFill>
                <a:latin typeface="Calibri"/>
              </a:rPr>
              <a:t>Патолошко</a:t>
            </a:r>
            <a:r>
              <a:rPr b="0" lang="en-US" sz="3800" spc="-1" strike="noStrike">
                <a:solidFill>
                  <a:srgbClr val="775f55"/>
                </a:solidFill>
                <a:latin typeface="Calibri"/>
              </a:rPr>
              <a:t> </a:t>
            </a:r>
            <a:r>
              <a:rPr b="0" lang="sr-CS" sz="3800" spc="-1" strike="noStrike">
                <a:solidFill>
                  <a:srgbClr val="775f55"/>
                </a:solidFill>
                <a:latin typeface="Calibri"/>
              </a:rPr>
              <a:t>пијанство</a:t>
            </a:r>
            <a:r>
              <a:rPr b="0" lang="en-US" sz="3800" spc="-1" strike="noStrike">
                <a:solidFill>
                  <a:srgbClr val="775f55"/>
                </a:solidFill>
                <a:latin typeface="Calibri"/>
              </a:rPr>
              <a:t> </a:t>
            </a:r>
            <a:r>
              <a:rPr b="0" lang="sr-RS" sz="3800" spc="-1" strike="noStrike">
                <a:solidFill>
                  <a:srgbClr val="dd8047"/>
                </a:solidFill>
                <a:latin typeface="Calibri"/>
              </a:rPr>
              <a:t>(</a:t>
            </a:r>
            <a:r>
              <a:rPr b="0" lang="sr-Latn-CS" sz="3800" spc="-1" strike="noStrike">
                <a:solidFill>
                  <a:srgbClr val="dd8047"/>
                </a:solidFill>
                <a:latin typeface="Calibri"/>
              </a:rPr>
              <a:t>F</a:t>
            </a:r>
            <a:r>
              <a:rPr b="0" lang="en-US" sz="3800" spc="-1" strike="noStrike">
                <a:solidFill>
                  <a:srgbClr val="dd8047"/>
                </a:solidFill>
                <a:latin typeface="Calibri"/>
              </a:rPr>
              <a:t>10.07</a:t>
            </a:r>
            <a:r>
              <a:rPr b="0" lang="sr-RS" sz="3800" spc="-1" strike="noStrike">
                <a:solidFill>
                  <a:srgbClr val="dd8047"/>
                </a:solidFill>
                <a:latin typeface="Calibri"/>
              </a:rPr>
              <a:t>)</a:t>
            </a:r>
            <a:br>
              <a:rPr sz="3800"/>
            </a:br>
            <a:endParaRPr b="0" lang="en-US" sz="3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атолошко акутно напито ста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асвим изненада особа упада у тешку психотичну реакцију, у једно сумрачно ста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авља се ефекат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56200" indent="-2372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зраженог страх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56200" indent="-2372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езоријентисаност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56200" indent="-2372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препознавања било кога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56200" indent="-2372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биља илузија и халуцинациј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56200" indent="-2372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грешног тумачења појава, предмета и збивања у околини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Одсуство физичких знакова напитости, терминални сан и несећање за одиграни догађај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Већа инциденца код особа са епилепсијом, конверзивним реаговањем и евентуалних можданих лез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sr-CS" sz="3400" spc="-1" strike="noStrike">
                <a:solidFill>
                  <a:srgbClr val="775f55"/>
                </a:solidFill>
                <a:latin typeface="Calibri"/>
              </a:rPr>
              <a:t>Алкохолна</a:t>
            </a:r>
            <a:r>
              <a:rPr b="0" lang="en-US" sz="3400" spc="-1" strike="noStrike">
                <a:solidFill>
                  <a:srgbClr val="775f55"/>
                </a:solidFill>
                <a:latin typeface="Calibri"/>
              </a:rPr>
              <a:t> </a:t>
            </a:r>
            <a:r>
              <a:rPr b="0" lang="sr-CS" sz="3400" spc="-1" strike="noStrike">
                <a:solidFill>
                  <a:srgbClr val="775f55"/>
                </a:solidFill>
                <a:latin typeface="Calibri"/>
              </a:rPr>
              <a:t>љубомора</a:t>
            </a:r>
            <a:r>
              <a:rPr b="0" lang="en-US" sz="3400" spc="-1" strike="noStrike">
                <a:solidFill>
                  <a:srgbClr val="775f55"/>
                </a:solidFill>
                <a:latin typeface="Calibri"/>
              </a:rPr>
              <a:t> (</a:t>
            </a:r>
            <a:r>
              <a:rPr b="0" lang="sr-CS" sz="3400" spc="-1" strike="noStrike">
                <a:solidFill>
                  <a:srgbClr val="775f55"/>
                </a:solidFill>
                <a:latin typeface="Calibri"/>
              </a:rPr>
              <a:t>параноја</a:t>
            </a:r>
            <a:r>
              <a:rPr b="0" lang="en-US" sz="3400" spc="-1" strike="noStrike">
                <a:solidFill>
                  <a:srgbClr val="775f55"/>
                </a:solidFill>
                <a:latin typeface="Calibri"/>
              </a:rPr>
              <a:t>) </a:t>
            </a:r>
            <a:r>
              <a:rPr b="0" lang="sr-RS" sz="3400" spc="-1" strike="noStrike">
                <a:solidFill>
                  <a:srgbClr val="dd8047"/>
                </a:solidFill>
                <a:latin typeface="Calibri"/>
              </a:rPr>
              <a:t>(</a:t>
            </a:r>
            <a:r>
              <a:rPr b="0" lang="sr-Latn-CS" sz="3400" spc="-1" strike="noStrike">
                <a:solidFill>
                  <a:srgbClr val="dd8047"/>
                </a:solidFill>
                <a:latin typeface="Calibri"/>
              </a:rPr>
              <a:t>F</a:t>
            </a:r>
            <a:r>
              <a:rPr b="0" lang="en-US" sz="3400" spc="-1" strike="noStrike">
                <a:solidFill>
                  <a:srgbClr val="dd8047"/>
                </a:solidFill>
                <a:latin typeface="Calibri"/>
              </a:rPr>
              <a:t>10.50</a:t>
            </a:r>
            <a:r>
              <a:rPr b="0" lang="sr-RS" sz="3400" spc="-1" strike="noStrike">
                <a:solidFill>
                  <a:srgbClr val="dd8047"/>
                </a:solidFill>
                <a:latin typeface="Calibri"/>
              </a:rPr>
              <a:t>)</a:t>
            </a:r>
            <a:br>
              <a:rPr sz="3400"/>
            </a:b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Чешћа код мушкараца у виду систематизованих суманутих идеја љубомор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Жена оболелог бива подвргнута најтежем малтретирању, праћењу, сумњичењу за неверств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 основи је реално опадање потенције услед дугогодишњег алкохолизма (јавља се изнад 4 деценије старост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ошто је либидо очуван раскорак фаворизује механизам пројекције у брачног партнера и рађа се суманутост љубомор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775f55"/>
                </a:solidFill>
                <a:latin typeface="Calibri"/>
              </a:rPr>
              <a:t>Друге алкохолне деменције </a:t>
            </a:r>
            <a:r>
              <a:rPr b="0" lang="sr-CS" sz="3600" spc="-1" strike="noStrike">
                <a:solidFill>
                  <a:srgbClr val="dd8047"/>
                </a:solidFill>
                <a:latin typeface="Calibri"/>
              </a:rPr>
              <a:t>(</a:t>
            </a:r>
            <a:r>
              <a:rPr b="0" lang="en-GB" sz="3600" spc="-1" strike="noStrike">
                <a:solidFill>
                  <a:srgbClr val="dd8047"/>
                </a:solidFill>
                <a:latin typeface="Tw Cen MT"/>
              </a:rPr>
              <a:t>F10.73</a:t>
            </a:r>
            <a:r>
              <a:rPr b="0" lang="sr-RS" sz="3600" spc="-1" strike="noStrike">
                <a:solidFill>
                  <a:srgbClr val="dd8047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омене у структури мождане коре услед дуготрајне интоксикације – атрофија мозга, најизраженије у кори чеоног режња великог моз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Когнитивни пад: осиромашење фонда знања и оштећење памће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Изражен је поремећај временске и просторне оријентације, лабилност афекта и измене социјалних и етичких норми понаша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У одмаклој фази тремор и дизартр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Компликације алкохолизм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Психичк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Телес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Гастроинтестиналне боле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Кардиоваскуларне смет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Респираторна обоље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Неуролошке комплика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Социјал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1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342900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Алкохол и насиљ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д дејством алкохола се поједине особе понашају увредљиво или насил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страшујуће, претеће или увредљиво понаш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знемиравање јав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гресивне и насилне радње, као што су туче и уништавање имов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родично насиљ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лостављање брачног партн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лостављање де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сиље деце над родитељ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775f55"/>
                </a:solidFill>
                <a:latin typeface="Calibri"/>
              </a:rPr>
              <a:t>Лечење алкохолне апстиненцијалне кризе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очиње детоксикациј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њује се симптоматска терапиј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d8047"/>
                </a:solidFill>
                <a:latin typeface="Calibri"/>
              </a:rPr>
              <a:t>надокнада теч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бог значајне дехидрације и неопходне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рекције 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a, Mg, P, K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 глукозе да би се превенирала хипогликемија, витамин 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d8047"/>
                </a:solidFill>
                <a:latin typeface="Calibri"/>
              </a:rPr>
              <a:t>бензодиазепин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због тремора, анксиозности, агитације и смањења ризика од епилептичног напа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dd8047"/>
                </a:solidFill>
                <a:latin typeface="Tw Cen MT"/>
              </a:rPr>
              <a:t>a</a:t>
            </a:r>
            <a:r>
              <a:rPr b="1" lang="sr-RS" sz="2400" spc="-1" strike="noStrike">
                <a:solidFill>
                  <a:srgbClr val="dd8047"/>
                </a:solidFill>
                <a:latin typeface="Calibri"/>
              </a:rPr>
              <a:t>нтипсихотици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уколико је пацијент агитиран, халуцинира или има сумануте идеје (халоперидол, оланзапин, рисперидо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d8047"/>
                </a:solidFill>
                <a:latin typeface="Calibri"/>
              </a:rPr>
              <a:t>антибиоти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AlPsy2.jpg"/>
          <p:cNvPicPr/>
          <p:nvPr/>
        </p:nvPicPr>
        <p:blipFill>
          <a:blip r:embed="rId1"/>
          <a:stretch/>
        </p:blipFill>
        <p:spPr>
          <a:xfrm>
            <a:off x="-152280" y="4800600"/>
            <a:ext cx="8629560" cy="13716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775f55"/>
                </a:solidFill>
                <a:latin typeface="Calibri"/>
              </a:rPr>
              <a:t>Лечење алкохолних психоз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16" name="Content Placeholder 3" descr="AlPsy1.jpg"/>
          <p:cNvPicPr/>
          <p:nvPr/>
        </p:nvPicPr>
        <p:blipFill>
          <a:blip r:embed="rId2"/>
          <a:stretch/>
        </p:blipFill>
        <p:spPr>
          <a:xfrm>
            <a:off x="-320760" y="2057400"/>
            <a:ext cx="9464760" cy="2936880"/>
          </a:xfrm>
          <a:prstGeom prst="rect">
            <a:avLst/>
          </a:prstGeom>
          <a:ln w="0">
            <a:noFill/>
          </a:ln>
        </p:spPr>
      </p:pic>
      <p:sp>
        <p:nvSpPr>
          <p:cNvPr id="417" name="TextBox 5"/>
          <p:cNvSpPr/>
          <p:nvPr/>
        </p:nvSpPr>
        <p:spPr>
          <a:xfrm>
            <a:off x="533520" y="5486400"/>
            <a:ext cx="86104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775f55"/>
                </a:solidFill>
                <a:latin typeface="Calibri"/>
              </a:rPr>
              <a:t>Одржавање алкохолне апстиненције</a:t>
            </a:r>
            <a:br>
              <a:rPr sz="3400"/>
            </a:br>
            <a:r>
              <a:rPr b="0" lang="sr-Latn-RS" sz="3400" spc="-1" strike="noStrike">
                <a:solidFill>
                  <a:srgbClr val="775f55"/>
                </a:solidFill>
                <a:latin typeface="Tw Cen MT"/>
              </a:rPr>
              <a:t>- </a:t>
            </a:r>
            <a:r>
              <a:rPr b="0" lang="sr-RS" sz="3400" spc="-1" strike="noStrike">
                <a:solidFill>
                  <a:srgbClr val="775f55"/>
                </a:solidFill>
                <a:latin typeface="Calibri"/>
              </a:rPr>
              <a:t>психотерапијске процедуре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чење компликација увек мора бити повезано с изменом понашања у односу на алкохолно пић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на психотерапијских процедура које укључују и породичну терап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упортивне организације лечених алкохоличар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д нас су актуелни Клубови лечених алкохолича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земљама Европске уније и Америке Анонимни алкохоличари − А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775f55"/>
                </a:solidFill>
                <a:latin typeface="Calibri"/>
              </a:rPr>
              <a:t>Одржавање алкохолне апстиненције</a:t>
            </a:r>
            <a:br>
              <a:rPr sz="3800"/>
            </a:br>
            <a:r>
              <a:rPr b="0" lang="en-US" sz="3800" spc="-1" strike="noStrike">
                <a:solidFill>
                  <a:srgbClr val="775f55"/>
                </a:solidFill>
                <a:latin typeface="Tw Cen MT"/>
              </a:rPr>
              <a:t>- </a:t>
            </a:r>
            <a:r>
              <a:rPr b="0" lang="en-US" sz="3800" spc="-1" strike="noStrike">
                <a:solidFill>
                  <a:srgbClr val="775f55"/>
                </a:solidFill>
                <a:latin typeface="Calibri"/>
              </a:rPr>
              <a:t>фармакотерапијске процедуре</a:t>
            </a:r>
            <a:endParaRPr b="0" lang="en-US" sz="3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7524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8047"/>
                </a:solidFill>
                <a:latin typeface="Calibri"/>
              </a:rPr>
              <a:t>Дисулфир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разумева пацијентово прихватање приме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рло неугодна реакција при истовременом уносу и најмање количину алкохола, која је проузрокована накупљањем ацетаделхида: црвенило лица, главобоља, пулсирајући бол у глави и врату, хипервентилација, тахикардија, хипотензија, знојење, анксиозност, слабост и конфуз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8047"/>
                </a:solidFill>
                <a:latin typeface="Calibri"/>
              </a:rPr>
              <a:t>Налтрексон</a:t>
            </a:r>
            <a:r>
              <a:rPr b="0" lang="ru-RU" sz="2200" spc="-1" strike="noStrike">
                <a:solidFill>
                  <a:srgbClr val="dd8047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ањује жудњу за алкохолом блокирајући отпуштање ендогених опијата, чиме зауставља пријатне ефекте који се јављају при конзумацији алкох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аже у постизању апстиненције превенирајући релапс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8047"/>
                </a:solidFill>
                <a:latin typeface="Calibri"/>
              </a:rPr>
              <a:t>Акампросат</a:t>
            </a:r>
            <a:r>
              <a:rPr b="0" lang="ru-RU" sz="2200" spc="-1" strike="noStrike">
                <a:solidFill>
                  <a:srgbClr val="dd8047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ханизам деловања није у потпуности позн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ристи се у терапији одржавања апстиненц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088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Светска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здравствена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организација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900" spc="-1" strike="noStrike">
                <a:solidFill>
                  <a:srgbClr val="dd8047"/>
                </a:solidFill>
                <a:latin typeface="Tw Cen MT"/>
              </a:rPr>
              <a:t>1951.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године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дефинисала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алкохоличаре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као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”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обе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готрајно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комерно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ију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лкохолна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ића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их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висност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лкохола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аква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пољавају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ремећаје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ласти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сихичког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изичког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дравља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ремећаје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носима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ругим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обама,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ремећаје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ог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кономског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ња.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Calibri"/>
              </a:rPr>
              <a:t>Мотивација на лечење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5238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акон хоспиталног третмана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ацијенте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отивисати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рихвате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лечење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у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отивацију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тално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развијати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јача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ацијенте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рихватити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разумевањем,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птужива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тпуну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апстиненцију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њено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оживотно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државање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сновних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ритеријума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злечења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огуће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стићи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уни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увид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болест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њене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следице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орениту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змену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ачина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живо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требан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sr-CS" sz="2200" spc="-1" strike="noStrike">
                <a:solidFill>
                  <a:srgbClr val="dd8047"/>
                </a:solidFill>
                <a:latin typeface="Calibri"/>
              </a:rPr>
              <a:t>тимски</a:t>
            </a:r>
            <a:r>
              <a:rPr b="1" lang="en-US" sz="2200" spc="-1" strike="noStrike">
                <a:solidFill>
                  <a:srgbClr val="dd8047"/>
                </a:solidFill>
                <a:latin typeface="Tw Cen MT"/>
              </a:rPr>
              <a:t> </a:t>
            </a:r>
            <a:r>
              <a:rPr b="1" lang="sr-CS" sz="2200" spc="-1" strike="noStrike">
                <a:solidFill>
                  <a:srgbClr val="dd8047"/>
                </a:solidFill>
                <a:latin typeface="Calibri"/>
              </a:rPr>
              <a:t>приступ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сихотерапија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оциотерапија,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купациона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групна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ндивидуална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ерапија,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укључење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лубове лечених алкохоличар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Алкохол као дрог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dd8047"/>
                </a:solidFill>
                <a:latin typeface="Calibri"/>
              </a:rPr>
              <a:t>Састав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тил- алкохол (етанол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генер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(органска супстанца од које ј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дређена врста алкохолно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ића и направље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dd8047"/>
                </a:solidFill>
                <a:latin typeface="Calibri"/>
              </a:rPr>
              <a:t>Дејств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фекти на флуидност и пермеабилност ћелијског зида неуро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већање </a:t>
            </a:r>
            <a:r>
              <a:rPr b="0" lang="sr-Latn-RS" sz="2000" spc="-1" strike="noStrike">
                <a:solidFill>
                  <a:srgbClr val="000000"/>
                </a:solidFill>
                <a:latin typeface="Tw Cen MT"/>
              </a:rPr>
              <a:t>GABA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еуротрансмисије и инхибиција глутаматергичке трансмис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лкохол- дехидрогеназа га оксидише до ацеталдехида који улази у Кребсов циклу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AutoShape 8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AutoShape 10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12" descr="https://upload.wikimedia.org/wikipedia/commons/b/b0/Ethanol-3D-balls.png"/>
          <p:cNvPicPr/>
          <p:nvPr/>
        </p:nvPicPr>
        <p:blipFill>
          <a:blip r:embed="rId1"/>
          <a:stretch/>
        </p:blipFill>
        <p:spPr>
          <a:xfrm>
            <a:off x="4952880" y="1371600"/>
            <a:ext cx="419112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Акутни ефекти алкохол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носи се пијењем алкохолних пића, а углавном се ресорбује путем танког црева (преко 50%) и желуца (2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Концентрација алкохола у крви је алкохолем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дмах после конзумирања алкохолног пића долази до споријег или бржег преласка алкохола у крв, потпуна ресорпција и највећа концентрација се постиже за 30-60 мину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з организма се одстрањује преко јетре (више од 90%), а мањи део дисањем (3-7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ницијални симптоми алкохолне интоксикације с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убјективно повишено расположење и смањење социјалне напет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већана дружељубивост и причљивост, осећање самопоуздањ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дезинхиби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Епидемиологиј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лкохол је </a:t>
            </a:r>
            <a:r>
              <a:rPr b="1" lang="sr-RS" sz="2400" spc="-1" strike="noStrike">
                <a:solidFill>
                  <a:srgbClr val="dd8047"/>
                </a:solidFill>
                <a:latin typeface="Calibri"/>
              </a:rPr>
              <a:t>пети фактор ризика</a:t>
            </a:r>
            <a:r>
              <a:rPr b="1" lang="sr-RS" sz="24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 обољевање и онеспособљеност у свет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dd8047"/>
                </a:solidFill>
                <a:latin typeface="Calibri"/>
              </a:rPr>
              <a:t>15%</a:t>
            </a:r>
            <a:r>
              <a:rPr b="0" lang="sr-RS" sz="2400" spc="-1" strike="noStrike">
                <a:solidFill>
                  <a:srgbClr val="dd8047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драсле популације </a:t>
            </a:r>
            <a:r>
              <a:rPr b="1" lang="sr-RS" sz="2400" spc="-1" strike="noStrike">
                <a:solidFill>
                  <a:srgbClr val="dd8047"/>
                </a:solidFill>
                <a:latin typeface="Calibri"/>
              </a:rPr>
              <a:t>свакодневно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конзумира алкохол у хазардерски опасним количинама (55 милиона Европља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ко 118 милиона Европљана се </a:t>
            </a:r>
            <a:r>
              <a:rPr b="1" lang="sr-RS" sz="2400" spc="-1" strike="noStrike">
                <a:solidFill>
                  <a:srgbClr val="dd8047"/>
                </a:solidFill>
                <a:latin typeface="Calibri"/>
              </a:rPr>
              <a:t>опија</a:t>
            </a:r>
            <a:r>
              <a:rPr b="0" lang="sr-RS" sz="2400" spc="-1" strike="noStrike">
                <a:solidFill>
                  <a:srgbClr val="dd8047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 “прекида филма” најмање једном месеч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5% одраслих мушкараца и 1% жена су </a:t>
            </a:r>
            <a:r>
              <a:rPr b="1" lang="sr-RS" sz="2400" spc="-1" strike="noStrike">
                <a:solidFill>
                  <a:srgbClr val="dd8047"/>
                </a:solidFill>
                <a:latin typeface="Calibri"/>
              </a:rPr>
              <a:t>зависници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од алкохола (23 милиона Европљан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775f55"/>
                </a:solidFill>
                <a:latin typeface="Calibri"/>
              </a:rPr>
              <a:t>Етиолошки фактори настанка алкохолизм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dd8047"/>
                </a:solidFill>
                <a:latin typeface="Calibri"/>
              </a:rPr>
              <a:t>ТРОУГАО ЗАВИСНОСТ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Isosceles Triangle 3"/>
          <p:cNvGrpSpPr/>
          <p:nvPr/>
        </p:nvGrpSpPr>
        <p:grpSpPr>
          <a:xfrm>
            <a:off x="2577960" y="3111480"/>
            <a:ext cx="4305600" cy="3086280"/>
            <a:chOff x="2577960" y="3111480"/>
            <a:chExt cx="4305600" cy="3086280"/>
          </a:xfrm>
        </p:grpSpPr>
        <p:pic>
          <p:nvPicPr>
            <p:cNvPr id="368" name="Isosceles Triangle 3" descr=""/>
            <p:cNvPicPr/>
            <p:nvPr/>
          </p:nvPicPr>
          <p:blipFill>
            <a:blip r:embed="rId1"/>
            <a:stretch/>
          </p:blipFill>
          <p:spPr>
            <a:xfrm>
              <a:off x="2577960" y="3111480"/>
              <a:ext cx="4305600" cy="30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772080" y="4648320"/>
              <a:ext cx="19047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0" name="TextBox 4"/>
          <p:cNvSpPr/>
          <p:nvPr/>
        </p:nvSpPr>
        <p:spPr>
          <a:xfrm>
            <a:off x="3276720" y="198108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ЧОВЕ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ЛИЧНОСТ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генетске и психолошке теориј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Box 5"/>
          <p:cNvSpPr/>
          <p:nvPr/>
        </p:nvSpPr>
        <p:spPr>
          <a:xfrm>
            <a:off x="304920" y="579132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РЕДИ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оступ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цијална толеранциј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Box 6"/>
          <p:cNvSpPr/>
          <p:nvPr/>
        </p:nvSpPr>
        <p:spPr>
          <a:xfrm>
            <a:off x="6746400" y="5943600"/>
            <a:ext cx="235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АЛКОХО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 седативни ефек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775f55"/>
                </a:solidFill>
                <a:latin typeface="Calibri"/>
              </a:rPr>
              <a:t>Класификације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sr-CS" sz="4000" spc="-1" strike="noStrike">
                <a:solidFill>
                  <a:srgbClr val="775f55"/>
                </a:solidFill>
                <a:latin typeface="Calibri"/>
              </a:rPr>
              <a:t>алкохолизма</a:t>
            </a:r>
            <a:br>
              <a:rPr sz="4000"/>
            </a:br>
            <a:r>
              <a:rPr b="0" lang="sr-CS" sz="4000" spc="-1" strike="noStrike">
                <a:solidFill>
                  <a:srgbClr val="775f55"/>
                </a:solidFill>
                <a:latin typeface="Calibri"/>
              </a:rPr>
              <a:t>- примарни и секундарни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04920" y="23619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dd8047"/>
                </a:solidFill>
                <a:latin typeface="Calibri"/>
              </a:rPr>
              <a:t>Примарни</a:t>
            </a:r>
            <a:r>
              <a:rPr b="1" lang="en-US" sz="2400" spc="-1" strike="noStrike">
                <a:solidFill>
                  <a:srgbClr val="dd8047"/>
                </a:solidFill>
                <a:latin typeface="Tw Cen MT"/>
              </a:rPr>
              <a:t> </a:t>
            </a:r>
            <a:r>
              <a:rPr b="1" lang="sr-CS" sz="2400" spc="-1" strike="noStrike">
                <a:solidFill>
                  <a:srgbClr val="dd8047"/>
                </a:solidFill>
                <a:latin typeface="Calibri"/>
              </a:rPr>
              <a:t>алкохолиза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ичности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ање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ажан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инилац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 главна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лога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писује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повољним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рединским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иниоц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dd8047"/>
                </a:solidFill>
                <a:latin typeface="Calibri"/>
              </a:rPr>
              <a:t>Секундарни алкохолизам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уктура личности и пратећи ментални поремећаји (анксиозност, депресија, поремећај личности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d8047"/>
                </a:solidFill>
                <a:latin typeface="Calibri"/>
              </a:rPr>
              <a:t>Размотрити дуалне дијагнозе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егзистенцију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ремећаја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енталног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дравља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астале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злоупотребе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АС</a:t>
            </a: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775f55"/>
                </a:solidFill>
                <a:latin typeface="Calibri"/>
              </a:rPr>
              <a:t>Класификација алкохолизма</a:t>
            </a:r>
            <a:br>
              <a:rPr sz="3400"/>
            </a:br>
            <a:r>
              <a:rPr b="0" lang="ru-RU" sz="3400" spc="-1" strike="noStrike">
                <a:solidFill>
                  <a:srgbClr val="775f55"/>
                </a:solidFill>
                <a:latin typeface="Calibri"/>
              </a:rPr>
              <a:t>- претоксикоманска и токсикоманска фаза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dd8047"/>
                </a:solidFill>
                <a:latin typeface="Calibri"/>
              </a:rPr>
              <a:t>Претеоксикоманска фаза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dd8047"/>
                </a:solidFill>
                <a:latin typeface="Calibri"/>
              </a:rPr>
              <a:t>повишена толеранција </a:t>
            </a:r>
            <a:r>
              <a:rPr b="0" lang="sr-CS" sz="1700" spc="-1" strike="noStrike">
                <a:solidFill>
                  <a:srgbClr val="000000"/>
                </a:solidFill>
                <a:latin typeface="Calibri"/>
              </a:rPr>
              <a:t>(употреба све већих количина алкохола без манифестног пијанства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dd8047"/>
                </a:solidFill>
                <a:latin typeface="Calibri"/>
              </a:rPr>
              <a:t>развој психичке зависности </a:t>
            </a:r>
            <a:r>
              <a:rPr b="0" lang="sr-CS" sz="1700" spc="-1" strike="noStrike">
                <a:solidFill>
                  <a:srgbClr val="000000"/>
                </a:solidFill>
                <a:latin typeface="Calibri"/>
              </a:rPr>
              <a:t>(ублажавање напетости, страха, неизвесности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dd8047"/>
                </a:solidFill>
                <a:latin typeface="Calibri"/>
              </a:rPr>
              <a:t>Токсикоманска фаза</a:t>
            </a:r>
            <a:r>
              <a:rPr b="1" lang="sr-CS" sz="19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dd8047"/>
                </a:solidFill>
                <a:latin typeface="Calibri"/>
              </a:rPr>
              <a:t>губитак контроле 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(последица постојања критичког прага алкохола у крви, али и психолошких и социјалних фактора- наговарање и притисак друштва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dd8047"/>
                </a:solidFill>
                <a:latin typeface="Calibri"/>
              </a:rPr>
              <a:t>алкохолне амнезије 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(несећање за периоде пијанства- палимпцест, има постинтоксикациони карактер и објашњава се променама у хипоталамусу и другим лимбичким структурама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dd8047"/>
                </a:solidFill>
                <a:latin typeface="Calibri"/>
              </a:rPr>
              <a:t>немогућност апстиненције 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(“феномен прве чаше”, пије по принципу доливања, знак физичке зависности, алкохол је “уграђен у метаболизам централног нервног система и без њега наступају апстиненцијални симптоми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700" spc="-1" strike="noStrike">
                <a:solidFill>
                  <a:srgbClr val="dd8047"/>
                </a:solidFill>
                <a:latin typeface="Calibri"/>
              </a:rPr>
              <a:t>пад толеранције 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</a:rPr>
              <a:t>(поремећај адаптационих способности у односу на продужење деловања токсичних фактора алкохола као последица озбиљних метаболичких поремећаја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1:14:42Z</dcterms:created>
  <dc:creator>p4</dc:creator>
  <dc:description/>
  <dc:language>en-US</dc:language>
  <cp:lastModifiedBy>Milica Borovcanin</cp:lastModifiedBy>
  <dcterms:modified xsi:type="dcterms:W3CDTF">2021-03-26T22:56:48Z</dcterms:modified>
  <cp:revision>80</cp:revision>
  <dc:subject/>
  <dc:title>PSIHICKI POREMECAJI I POREMECAJI PONASANJA IZAZVANI ALKOHOLOM</dc:title>
</cp:coreProperties>
</file>